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23C-1916-48A8-8549-4C2F0DA0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281-150F-4703-AC00-E1DE4F77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B58-A13E-4F2D-B2DB-3D17F72B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EE0-9DA6-4888-8AFD-206DE565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4F4-5899-416E-9242-CF181DC9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470-F2AD-4BFF-A717-60F795A0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4EF-6A9D-45CC-89C5-2F122005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283-4EA4-4707-91F1-84E431DE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2BC-A8FB-4A21-87AC-5B6B63A7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B91-6F2D-45BA-8AAB-88FC47E7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A6A-7851-4FD1-BD4C-85E39826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ED8-CAE0-46C6-9605-B0F7012E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BC18-BD0D-48BD-B418-E86802C0BC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4"/>
          <p:cNvSpPr/>
          <p:nvPr/>
        </p:nvSpPr>
        <p:spPr>
          <a:xfrm>
            <a:off x="250920" y="115920"/>
            <a:ext cx="6049800" cy="673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Calibri"/>
              </a:rPr>
              <a:t>台風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7</a:t>
            </a:r>
            <a:r>
              <a:rPr b="1" lang="ja-JP" sz="2400" spc="-1" strike="noStrike">
                <a:solidFill>
                  <a:srgbClr val="ffffff"/>
                </a:solidFill>
                <a:latin typeface="Calibri"/>
              </a:rPr>
              <a:t>号及び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8</a:t>
            </a:r>
            <a:r>
              <a:rPr b="1" lang="ja-JP" sz="2400" spc="-1" strike="noStrike">
                <a:solidFill>
                  <a:srgbClr val="ffffff"/>
                </a:solidFill>
                <a:latin typeface="Calibri"/>
              </a:rPr>
              <a:t>号に伴う降雨による災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Calibri"/>
              </a:rPr>
              <a:t>ＴＥＣ－ＦＯＲＣＥ他　活動記録情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18"/>
          <p:cNvSpPr/>
          <p:nvPr/>
        </p:nvSpPr>
        <p:spPr>
          <a:xfrm>
            <a:off x="179280" y="888840"/>
            <a:ext cx="8702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本部会議及びＴＥＣ－ＦＯＲＣＥ帰還式の状況（関東地方整備局内）　　　　　　　　　　　　　　　　　　　（９：３０時頃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6"/>
          <p:cNvSpPr/>
          <p:nvPr/>
        </p:nvSpPr>
        <p:spPr>
          <a:xfrm>
            <a:off x="6516720" y="452520"/>
            <a:ext cx="2376360" cy="336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Calibri"/>
              </a:rPr>
              <a:t>平成２７年９月１８日（金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4" descr="\\ktr20-gnr-fs030\災害対策情報共有\★★災害対応★★\H27年度\H27.09.08 台風17号及び18号\07 広報班\★各種写真\170918★本部長会議→帰還式写真★\IMG_0086.JPG"/>
          <p:cNvPicPr/>
          <p:nvPr/>
        </p:nvPicPr>
        <p:blipFill>
          <a:blip r:embed="rId1"/>
          <a:srcRect l="0" t="21210" r="0" b="0"/>
          <a:stretch/>
        </p:blipFill>
        <p:spPr>
          <a:xfrm>
            <a:off x="250920" y="1370160"/>
            <a:ext cx="4171680" cy="24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Picture 15" descr="\\ktr20-gnr-fs030\災害対策情報共有\★★災害対応★★\H27年度\H27.09.08 台風17号及び18号\07 広報班\★各種写真\170918★本部長会議→帰還式写真★\IMG_0088.JPG"/>
          <p:cNvPicPr/>
          <p:nvPr/>
        </p:nvPicPr>
        <p:blipFill>
          <a:blip r:embed="rId2"/>
          <a:srcRect l="0" t="20903" r="0" b="0"/>
          <a:stretch/>
        </p:blipFill>
        <p:spPr>
          <a:xfrm>
            <a:off x="4692600" y="1370160"/>
            <a:ext cx="4156200" cy="24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6" descr="\\ktr20-gnr-fs030\災害対策情報共有\★★災害対応★★\H27年度\H27.09.08 台風17号及び18号\07 広報班\★各種写真\170918★本部長会議→帰還式写真★\IMG_0105.JPG"/>
          <p:cNvPicPr/>
          <p:nvPr/>
        </p:nvPicPr>
        <p:blipFill>
          <a:blip r:embed="rId3"/>
          <a:srcRect l="-544" t="12833" r="552" b="9568"/>
          <a:stretch/>
        </p:blipFill>
        <p:spPr>
          <a:xfrm>
            <a:off x="193680" y="4149720"/>
            <a:ext cx="4235400" cy="24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Picture 17" descr="\\ktr20-gnr-fs030\災害対策情報共有\★★災害対応★★\H27年度\H27.09.08 台風17号及び18号\07 広報班\★各種写真\170918★本部長会議→帰還式写真★\IMG_0104.JPG"/>
          <p:cNvPicPr/>
          <p:nvPr/>
        </p:nvPicPr>
        <p:blipFill>
          <a:blip r:embed="rId4"/>
          <a:srcRect l="0" t="20919" r="4524" b="4024"/>
          <a:stretch/>
        </p:blipFill>
        <p:spPr>
          <a:xfrm>
            <a:off x="4668840" y="4149720"/>
            <a:ext cx="4179960" cy="24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18"/>
          <p:cNvSpPr/>
          <p:nvPr/>
        </p:nvSpPr>
        <p:spPr>
          <a:xfrm>
            <a:off x="179280" y="888840"/>
            <a:ext cx="8702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現地復旧作業状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6"/>
          <p:cNvSpPr/>
          <p:nvPr/>
        </p:nvSpPr>
        <p:spPr>
          <a:xfrm>
            <a:off x="6516720" y="452520"/>
            <a:ext cx="2376360" cy="336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Calibri"/>
              </a:rPr>
              <a:t>平成２７年９月１８日（金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1" descr="\\ktr20-gnr-fs030\災害対策情報共有\★★災害対応★★\H27年度\H27.09.08 台風17号及び18号\07 広報班\★各種写真\150918_am現場\DSC06214.JPG"/>
          <p:cNvPicPr/>
          <p:nvPr/>
        </p:nvPicPr>
        <p:blipFill>
          <a:blip r:embed="rId1"/>
          <a:srcRect l="0" t="0" r="0" b="3375"/>
          <a:stretch/>
        </p:blipFill>
        <p:spPr>
          <a:xfrm>
            <a:off x="250920" y="1366920"/>
            <a:ext cx="4282920" cy="232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Picture 12" descr="\\ktr20-gnr-fs030\災害対策情報共有\★★災害対応★★\H27年度\H27.09.08 台風17号及び18号\07 広報班\★各種写真\150918_am現場\DSC06228.JPG"/>
          <p:cNvPicPr/>
          <p:nvPr/>
        </p:nvPicPr>
        <p:blipFill>
          <a:blip r:embed="rId2"/>
          <a:srcRect l="0" t="0" r="0" b="3375"/>
          <a:stretch/>
        </p:blipFill>
        <p:spPr>
          <a:xfrm>
            <a:off x="4629240" y="1366920"/>
            <a:ext cx="4282920" cy="232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13" descr="\\ktr20-gnr-fs030\災害対策情報共有\★★災害対応★★\H27年度\H27.09.08 台風17号及び18号\07 広報班\★各種写真\150918_am現場\DSC06232.JPG"/>
          <p:cNvPicPr/>
          <p:nvPr/>
        </p:nvPicPr>
        <p:blipFill>
          <a:blip r:embed="rId3"/>
          <a:srcRect l="0" t="0" r="3281" b="5074"/>
          <a:stretch/>
        </p:blipFill>
        <p:spPr>
          <a:xfrm>
            <a:off x="282600" y="3933720"/>
            <a:ext cx="4248000" cy="23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13" descr="\\ktr20-gnr-fs030\災害対策情報共有\★★災害対応★★\H27年度\H27.09.08 台風17号及び18号\07 広報班\★各種写真\150918_pm現地（鋼矢板他）\DSC06249.JPG"/>
          <p:cNvPicPr/>
          <p:nvPr/>
        </p:nvPicPr>
        <p:blipFill>
          <a:blip r:embed="rId4"/>
          <a:srcRect l="0" t="2658" r="0" b="0"/>
          <a:stretch/>
        </p:blipFill>
        <p:spPr>
          <a:xfrm>
            <a:off x="4629240" y="3933720"/>
            <a:ext cx="4282920" cy="23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角丸四角形 11"/>
          <p:cNvSpPr/>
          <p:nvPr/>
        </p:nvSpPr>
        <p:spPr>
          <a:xfrm>
            <a:off x="250920" y="115920"/>
            <a:ext cx="6049800" cy="673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Calibri"/>
              </a:rPr>
              <a:t>台風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7</a:t>
            </a:r>
            <a:r>
              <a:rPr b="1" lang="ja-JP" sz="2400" spc="-1" strike="noStrike">
                <a:solidFill>
                  <a:srgbClr val="ffffff"/>
                </a:solidFill>
                <a:latin typeface="Calibri"/>
              </a:rPr>
              <a:t>号及び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8</a:t>
            </a:r>
            <a:r>
              <a:rPr b="1" lang="ja-JP" sz="2400" spc="-1" strike="noStrike">
                <a:solidFill>
                  <a:srgbClr val="ffffff"/>
                </a:solidFill>
                <a:latin typeface="Calibri"/>
              </a:rPr>
              <a:t>号に伴う降雨による災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Calibri"/>
              </a:rPr>
              <a:t>ＴＥＣ－ＦＯＲＣＥ他　活動記録情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テキスト ボックス 18"/>
          <p:cNvSpPr/>
          <p:nvPr/>
        </p:nvSpPr>
        <p:spPr>
          <a:xfrm>
            <a:off x="179280" y="888840"/>
            <a:ext cx="8702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鋼矢板打込み状況　（現地状況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正方形/長方形 6"/>
          <p:cNvSpPr/>
          <p:nvPr/>
        </p:nvSpPr>
        <p:spPr>
          <a:xfrm>
            <a:off x="6516720" y="452520"/>
            <a:ext cx="2376360" cy="336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Calibri"/>
              </a:rPr>
              <a:t>平成２７年９月１８日（金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\\ktr20-gnr-fs030\災害対策情報共有\★★災害対応★★\H27年度\H27.09.08 台風17号及び18号\07 広報班\★各種写真\150918_pm現地（鋼矢板他）\DSC06274.JPG"/>
          <p:cNvPicPr/>
          <p:nvPr/>
        </p:nvPicPr>
        <p:blipFill>
          <a:blip r:embed="rId1"/>
          <a:stretch/>
        </p:blipFill>
        <p:spPr>
          <a:xfrm>
            <a:off x="3927600" y="1255680"/>
            <a:ext cx="453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5" descr="\\ktr20-gnr-fs030\災害対策情報共有\★★災害対応★★\H27年度\H27.09.08 台風17号及び18号\07 広報班\★各種写真\150918_pm現地（鋼矢板他）\DSC06278.JPG"/>
          <p:cNvPicPr/>
          <p:nvPr/>
        </p:nvPicPr>
        <p:blipFill>
          <a:blip r:embed="rId2"/>
          <a:stretch/>
        </p:blipFill>
        <p:spPr>
          <a:xfrm>
            <a:off x="3927600" y="4076640"/>
            <a:ext cx="4562280" cy="25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5" descr=""/>
          <p:cNvPicPr/>
          <p:nvPr/>
        </p:nvPicPr>
        <p:blipFill>
          <a:blip r:embed="rId3"/>
          <a:srcRect l="35175" t="0" r="33287" b="0"/>
          <a:stretch/>
        </p:blipFill>
        <p:spPr>
          <a:xfrm>
            <a:off x="611280" y="1252440"/>
            <a:ext cx="3036960" cy="541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角丸四角形 10"/>
          <p:cNvSpPr/>
          <p:nvPr/>
        </p:nvSpPr>
        <p:spPr>
          <a:xfrm>
            <a:off x="250920" y="115920"/>
            <a:ext cx="6049800" cy="673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Calibri"/>
              </a:rPr>
              <a:t>台風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7</a:t>
            </a:r>
            <a:r>
              <a:rPr b="1" lang="ja-JP" sz="2400" spc="-1" strike="noStrike">
                <a:solidFill>
                  <a:srgbClr val="ffffff"/>
                </a:solidFill>
                <a:latin typeface="Calibri"/>
              </a:rPr>
              <a:t>号及び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8</a:t>
            </a:r>
            <a:r>
              <a:rPr b="1" lang="ja-JP" sz="2400" spc="-1" strike="noStrike">
                <a:solidFill>
                  <a:srgbClr val="ffffff"/>
                </a:solidFill>
                <a:latin typeface="Calibri"/>
              </a:rPr>
              <a:t>号に伴う降雨による災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Calibri"/>
              </a:rPr>
              <a:t>ＴＥＣ－ＦＯＲＣＥ他　活動記録情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6:02:35Z</dcterms:created>
  <dc:creator>関東地方整備局</dc:creator>
  <dc:description/>
  <dc:language>en-US</dc:language>
  <cp:lastModifiedBy>関東地方整備局</cp:lastModifiedBy>
  <cp:lastPrinted>2015-09-18T09:37:21Z</cp:lastPrinted>
  <dcterms:modified xsi:type="dcterms:W3CDTF">2015-09-19T02:14:58Z</dcterms:modified>
  <cp:revision>209</cp:revision>
  <dc:subject/>
  <dc:title>PowerPoint プレゼンテーション</dc:title>
</cp:coreProperties>
</file>